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ED5B-63FC-4183-B6F5-2CA0798B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9FB4-218C-4012-A2BC-25D25FD3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6F2-2B07-46E8-9855-CF6B1A6C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2C6-DB7C-45E1-9568-B0F5105D4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7D0D-5D05-48DF-9ABB-8EBD2B6B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F1A0-EB2A-4497-B973-A13D4F77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2B5-2C74-4CDF-A898-54D862C0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A93-DA07-4A78-84C3-A6375B67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F793-D263-43F4-BAE8-EFFD640E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878-7660-461C-8C10-45A63DF0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120-1723-4DD4-BE29-9FFD0C99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19D-74F4-4848-A0A0-31E5D0F0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9502-DBE5-4B56-B260-0C8DA5A19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winnett.k12.ga.us/WalnutGroveES/misc/Text%20Features.pdf" TargetMode="External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enre—Nonfiction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fiction is writing about real people, places and events. You encounter nonfiction when you read a movie review, a newspaper editorial, or a history textbook. Unlike fiction, nonfiction contains mostly factual information, although the writer selects the information in accordance with his or her purpose. Nonfiction and informational texts include a wide variety of writing, from recipes to speeches to sports articles and encyclopedi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raph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olph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orpo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have cone—shaped teeth        Always have cone—shaped teeth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have a beak                            Usually have a b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have a hooked or curved       Usually have a dorsal fin shape like a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triangle (some have no dorsal f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rsal fin (some have no dorsal f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676520"/>
            <a:ext cx="800100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16765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2096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7432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1240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420000">
            <a:off x="6019920" y="4191120"/>
            <a:ext cx="2057400" cy="19047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s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s to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agram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6019920" cy="4670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300000">
            <a:off x="6248160" y="1523880"/>
            <a:ext cx="2133360" cy="266724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s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work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rder of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ap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480000">
            <a:off x="6324120" y="380880"/>
            <a:ext cx="2514600" cy="16765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allow reader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 th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location of 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takes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riett Tubman’s Underground Rail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riet Tubman was a run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 from Maryland who 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to freedom. Over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of 10 years, and at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risk, she led hundr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laves to freedom along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round Railroad, a sec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of safe houses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away slaves could stay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journey north to freed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99420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bels with lines or Arrow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of a Sh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4672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420000">
            <a:off x="6400800" y="1218960"/>
            <a:ext cx="2514600" cy="15238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s with line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ows allow author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npoint areas and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larify for read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xt Features work together with the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thor’s words to increase a readers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derstanding of th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594360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 consists of several layers. The three main layers are the core,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tle and the crust. The core is the inner part of the earth, the crust i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er part and between them is the mantle. The earth is surrounded by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osphere. Till this moment it hasn't been possible to take a look inside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 because the current technology doesn't allow it. Therefore all kind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had to be done to find out, out of which material the earth consis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ifferent layers there are and which influence those have (had) o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's surface. This research is called seism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three helpful text features on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one pag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s of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arth consists of several layers. The three main layers ar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t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u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core is the inner part of the earth, the crust i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er part and between them is the mantle. The earth is surrounded by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osp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ill this moment it hasn't been possible to take a look insid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because the current technology doesn't allow it. Therefore all kind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had to be done to find out, out of which material the earth consis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ifferent layers there are and which influence those have (had) o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's surface. This research i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ismolo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ol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ut A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990720"/>
            <a:ext cx="19814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4173480"/>
            <a:ext cx="2813040" cy="268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V="1">
            <a:off x="1371600" y="4952520"/>
            <a:ext cx="2209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696080" y="22093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943600" y="4114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ource Page: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winnett.k12.ga.us/WalnutGroveES/misc/Text%20Features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Robin Davidson and Anna Mary Smi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ember Text Features are our friends because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learn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visu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understand main id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understand data through graphs, charts and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elp us gath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ub-Genre Text Book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xt books are designed to teach a certain subject to a certain group of students.  Text books follow a pattern, for example: History books go i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ronologic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, in the order of the time events happened.  A Spanish Language text book follows the order of the structure of language. Every book is different but contains the sam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ext fe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arts of your text book that have been created to help you locate and learn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mon text feature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d, color,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icized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ssary and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xes and Fun F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om-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-a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and ar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s and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0" y="3618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eadin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eams of a Better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ople who came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lis Isl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re from many different places. 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from small villages and large cities all over the world. At first, m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nts came from Ireland, Germany, and Scandinavia. Then people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European countries started to arr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immigrants who landed on Ellis Island were poor. They had sa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onths and years to buy their boat tickets to the United States. They w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ing to give up their homes and everything they h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67080" y="4495680"/>
            <a:ext cx="4159440" cy="2135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00800" y="228600"/>
            <a:ext cx="2514600" cy="1600200"/>
          </a:xfrm>
          <a:prstGeom prst="wedgeRectCallout">
            <a:avLst>
              <a:gd name="adj1" fmla="val -28976"/>
              <a:gd name="adj2" fmla="val 66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ings al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ers to wha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com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going to be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hotograph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381880" cy="433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840000">
            <a:off x="6076440" y="758520"/>
            <a:ext cx="2629080" cy="236232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 carefu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photo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mpany the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and s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exa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 looks li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ption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1474920"/>
            <a:ext cx="8458200" cy="4163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780000">
            <a:off x="6171840" y="609480"/>
            <a:ext cx="2590920" cy="228600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tions are writte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s to expla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graph. O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, there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not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ai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7150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is snake staring at you? Snakes do not have eyelids like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ead, they have clear scales that protect their eyes and allow them to s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934320" y="2819520"/>
            <a:ext cx="121896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6400800" cy="6216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ut away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300000">
            <a:off x="515520" y="2673360"/>
            <a:ext cx="2362320" cy="220968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-alway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r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ome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s like in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Zoom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300000">
            <a:off x="304920" y="2362320"/>
            <a:ext cx="2438280" cy="23619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zoom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s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l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up cl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6019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is zoomed in photograph, we can see that tarant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tiny hairs all over their 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able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ty Crisis: Dolphin or Porpo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difference between a dolphin and a porpoise! "Dolphin" usually refers to the specific group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, toothed cetaceans in the family Delphinidae. There are over 30 species of true dolphins, in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iar species like the bottlenose, spinner, and spotted dolphins. Although the largest members of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re commonly called whales because of their size, they are actually most closely related to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lphins. The large dolphins include killer whales and pilot wh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Porpoise" refers to six species in the family Phocoenidae. All porpoises are relatively small by ceta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, measuring 7 feet (2 meters) or less as ad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otable differences between dolphins and porpoises are the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21:06:30Z</dcterms:created>
  <dc:creator>vephillips</dc:creator>
  <dc:description/>
  <dc:language>en-US</dc:language>
  <cp:lastModifiedBy>vephillips</cp:lastModifiedBy>
  <dcterms:modified xsi:type="dcterms:W3CDTF">2009-10-21T14:39:10Z</dcterms:modified>
  <cp:revision>3</cp:revision>
  <dc:subject/>
  <dc:title>Slide 1</dc:title>
</cp:coreProperties>
</file>