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9B5-764F-49F0-B355-1D6440C2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DC4-81D4-422E-80C3-BF8FB353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FDB-0BDC-4D62-A1C5-010FDCF8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A9A-94C5-442E-B766-0D9103EE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BE9-DD3F-4F3B-9F12-923060E7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893-9D96-4F46-A0F7-870D72B2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3D5-D243-4AB2-AD6C-6EEF10B8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61D-4BD7-4F5F-B0BC-A14A1E2A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182-B77B-4A41-841D-FE4A8D71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340-B5D1-4655-8D81-5E70698B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EF3-C36F-49CA-8EB3-47171508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AF4-C19D-4F5B-BAEC-5469449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0959-71BE-48B0-8503-A8EA21FC7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winnett.k12.ga.us/WalnutGroveES/misc/Text%20Features.pdf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nre—Nonficti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fiction is writing about real people, places and events. You encounter nonfiction when you read a movie review, a newspaper editorial, or a history textbook. Unlike fiction, nonfiction contains mostly factual information, although the writer selects the information in accordance with his or her purpose. Nonfiction and informational texts include a wide variety of writing, from recipes to speeches to sports articles and encycloped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lph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rpo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have cone—shaped teeth        Always have cone—shaped teeth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beak                            Usually have a b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hooked or curved       Usually have a dorsal fin shape like a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riangle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fin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676520"/>
            <a:ext cx="80010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6765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096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743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124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420000">
            <a:off x="6019920" y="4191120"/>
            <a:ext cx="2057400" cy="19047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to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gram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019920" cy="4670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300000">
            <a:off x="6248160" y="1523880"/>
            <a:ext cx="2133360" cy="26672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work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der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480000">
            <a:off x="6324120" y="380880"/>
            <a:ext cx="2514600" cy="16765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allow read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 th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location of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riett Tubman’s Underground Rail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Tubman was a run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from Maryland who 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to freedom. Ove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10 years, and at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risk, she led 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laves to freedom alo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ound Railroad, a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safe houses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away slaves could sta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journey north to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420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bels with lines or Arrow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of a 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72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420000">
            <a:off x="6400800" y="1218960"/>
            <a:ext cx="2514600" cy="15238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s with line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ows allow autho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point areas and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larify for rea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 Features work together with the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 words to increase a readers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standing of th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9436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core,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le and the crust. The core is the inner part of the earth, the cru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e. Till this moment it hasn't been possible to take a look insid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's surface. This research is called seism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three helpful text features on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one pa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s of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core is the inner part of the earth, the crust i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ill this moment it hasn't been possible to take a look insid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's surface. This research i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ol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ut A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99072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4173480"/>
            <a:ext cx="2813040" cy="268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1371600" y="495252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96080" y="220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943600" y="4114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urce Page: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winnett.k12.ga.us/WalnutGroveES/misc/Text%20Features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Robin Davidson and Anna Mary Sm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 Text Features are our friends because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learn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visu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main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data through graphs, charts and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ga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-Genre Text Book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books are designed to teach a certain subject to a certain group of students.  Text books follow a pattern, for example: History books go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nologi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, in the order of the time events happened.  A Spanish Language text book follows the order of the structure of language. Every book is different but contains the sam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xt 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rts of your text book that have been created to help you locate and learn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text featur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d, color,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cized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 and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 and Fun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-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-a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and ar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s and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361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eams of a Bette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ople who came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is Isl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e from many different places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from small villages and large cities all over the world. At first,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came from Ireland, Germany, and Scandinavia. Then peopl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ropean countries started to arr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immigrants who landed on Ellis Island were poor. They had sa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nths and years to buy their boat tickets to the United States. They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ng to give up their homes and everything they h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4495680"/>
            <a:ext cx="4159440" cy="213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228600"/>
            <a:ext cx="2514600" cy="1600200"/>
          </a:xfrm>
          <a:prstGeom prst="wedgeRectCallout">
            <a:avLst>
              <a:gd name="adj1" fmla="val -28976"/>
              <a:gd name="adj2" fmla="val 6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ings a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to wha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com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going to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graph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38188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840000">
            <a:off x="6076440" y="758520"/>
            <a:ext cx="2629080" cy="23623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care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pany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and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looks l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ption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474920"/>
            <a:ext cx="8458200" cy="4163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780000">
            <a:off x="6171840" y="609480"/>
            <a:ext cx="2590920" cy="2286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ions are writt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to expla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graph. O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, there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ot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i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715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snake staring at you? Snakes do not have eyelids like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they have clear scales that protect their eyes and allow them to 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934320" y="2819520"/>
            <a:ext cx="12189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400800" cy="6216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t awa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300000">
            <a:off x="515520" y="2673360"/>
            <a:ext cx="2362320" cy="22096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-alway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like in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Zoom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300000">
            <a:off x="304920" y="2362320"/>
            <a:ext cx="2438280" cy="2361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zoom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up cl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is zoomed in photograph, we can see that tarant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iny hairs all over their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bl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ty Crisis: Dolphin or Porpo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fference between a dolphin and a porpoise! "Dolphin" usually refers to the specific group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toothed cetaceans in the family Delphinidae. There are over 30 species of true dolphins,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iar species like the bottlenose, spinner, and spotted dolphins. Although the largest members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re commonly called whales because of their size, they are actually most closely related to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phins. The large dolphins include killer whales and pilot wh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Porpoise" refers to six species in the family Phocoenidae. All porpoises are relatively small by ceta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, measuring 7 feet (2 meters) or less as ad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table differences between dolphins and porpoises are the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1:06:30Z</dcterms:created>
  <dc:creator>vephillips</dc:creator>
  <dc:description/>
  <dc:language>en-US</dc:language>
  <cp:lastModifiedBy>vephillips</cp:lastModifiedBy>
  <dcterms:modified xsi:type="dcterms:W3CDTF">2009-10-21T14:39:10Z</dcterms:modified>
  <cp:revision>3</cp:revision>
  <dc:subject/>
  <dc:title>Slide 1</dc:title>
</cp:coreProperties>
</file>