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91B-73C8-445B-952F-C2413A6B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831-9D78-4BFB-8EDA-264BCAEE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9C5-052E-4098-99CC-9CCB25F6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A02-7562-4B85-AD5E-52E598CA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73D-17CA-469A-B009-2602DE5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3F0-6EEB-4289-96A3-98A936D3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994-A8DC-4A37-836A-AFA340D9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BB6-82AC-4F49-801D-0224A174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611-690F-4883-BFEF-F1959E43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8D8-8734-4BF7-B4C6-35A4F71A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751-2BD6-4F29-A7FF-C644F030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DBD-0B87-4466-A007-5D6E3D1A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5516-F4F0-42CA-961B-8E95BA7581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Garamond"/>
              </a:rPr>
              <a:t>GRAMMAR</a:t>
            </a:r>
            <a:endParaRPr b="0" lang="en-US" sz="96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ENSE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ally, you MUST NOT switch back and forth between tenses in your writing in this class, to do so makes the reader question your control over your writ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Contraction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contra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2743200"/>
          <a:ext cx="6096240" cy="3708360"/>
        </p:xfrm>
        <a:graphic>
          <a:graphicData uri="http://schemas.openxmlformats.org/drawingml/2006/table">
            <a:tbl>
              <a:tblPr/>
              <a:tblGrid>
                <a:gridCol w="2133720"/>
                <a:gridCol w="2209680"/>
                <a:gridCol w="1752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ntr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ill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’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 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’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 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Etc., etc., ad infinit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ITS vs. IT’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you should not be using contractions, this should not be an issue, but if it is, ITS is a possessive pronou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means you use ITS when you are saying 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ing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wns something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ive in a duplex. Unfortunately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its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oof is about to fall in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HAT vs. WHO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are describing a PERSON, and are adding more information, please use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H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stead of that: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lius Caesar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killed by his friends and colleagues, exhibits tyrannical behavio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subject (what is “doing” the verb) and the verb have to agree, or go together.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.g. I eat cake (SVO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ubjects (always try to put these BEFORE the verb) include the following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3657600"/>
          <a:ext cx="7315200" cy="2949480"/>
        </p:xfrm>
        <a:graphic>
          <a:graphicData uri="http://schemas.openxmlformats.org/drawingml/2006/table">
            <a:tbl>
              <a:tblPr/>
              <a:tblGrid>
                <a:gridCol w="2889000"/>
                <a:gridCol w="2324160"/>
                <a:gridCol w="210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e/She/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verbs have to change to match up with the subjects, for example for the verb “walk:”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He/She/It WALK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(all) WALK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y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how the verb “walk” changes for He/She/It (or in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eorgi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person singular)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ASSIVE vs. ACTIVE VOIC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ke sure that when you are writing, your subject is directly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rather than being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NE B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The website is updated by me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I update  the websit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Caesar was killed by Brutus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Brutus killed Caesa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” is the subject, it is always “doing” 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e” is the object, it is always “being done” by the verb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am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is going with me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 and 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eak them down to check when you have TWO peopl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…Amy is going to the store…I am going to the store, therefore: Amy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…That present is for me, therefore, that present is for Andrew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party is for Ben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and me are going to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effrey and me are friend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was speaking to Ja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ephen and me are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idea is perfect for Alex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itle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derline or Italicize titles of novels or play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obviously, if you are writing, you cannot italiciz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itles of poems, short stories or articles should be in quotation marks: “Sonnet 138” or “The Love Song of J. Alfred Prufrock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a su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there?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riend, who is older than me, is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athcliff, who is in love with Catherine, is a wretche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M is an o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BEING DON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y the verb. Usually you know you need to use whom when you see a preposition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 Whom It May Concern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r whom did you buy that cake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ith whom did you go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 one actually talks like this (except me sometimes); this is for formal writ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5-Point Star 3"/>
          <p:cNvSpPr/>
          <p:nvPr/>
        </p:nvSpPr>
        <p:spPr>
          <a:xfrm>
            <a:off x="228600" y="556272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5-Point Star 4"/>
          <p:cNvSpPr/>
          <p:nvPr/>
        </p:nvSpPr>
        <p:spPr>
          <a:xfrm>
            <a:off x="7696080" y="609588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ERS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writing i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I/W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lso avoid writing 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You, You all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fore, you should write in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Georgia"/>
              </a:rPr>
              <a:t>THIRD PERSON!!!!!!!!!!</a:t>
            </a:r>
            <a:endParaRPr b="0" lang="en-US" sz="5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RONOUNS INCLUD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UBJECT: He/She/It/They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OBJECT: Him/Her/It/The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SUBJECT: His/Her/Its/Their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OBJECT His/Hers/Its/Their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REFLEXIVE: Himself/Herself/Itself/Themselve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pronoun must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GRE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with its antecedent (the word or phrase it replaced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st like with Subject/Verb Agreement, if you do not match up your pronouns and antecedents, your writing becomes very confu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 and figure out what is wro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ry is studying biology, a course you need in order to prepare for medical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ach nation has their own culture and our nation has their own culture to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hley and Leia cannot find her glov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le Arthur sent us a package, but we never arriv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ome mor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ew in the class gave its approva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ur friends gave Joe and myself a part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tory was exciting, but they did not explain what happened at the en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Caesar entered the Senate, Brutus and the other conspirators began to crowd around. Even so, he did not sense any dang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less final than a period, but calls for more of a pause than a comma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separates two clauses, but allows you to show that there is a connection between these two claus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a good way of combining ideas and avoiding choppiness of many short sentenc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se a semi-colon to join independent clauses that are not already joined by a conjunction (and, but, for, nor, or, so, yet); for sentences using conjunctions, use a comma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 a cake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a cake;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semi-colon should not be used between unrelated sentences. The two clauses should be related in meaning and structur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avorite dinner begins with a steaming bowl of soup; I wonder why mother is not home ye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ate until we could not eat another bite; we were all hungry after our hik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Mix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ry not to confuse the following word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2971800"/>
          <a:ext cx="8686800" cy="3556080"/>
        </p:xfrm>
        <a:graphic>
          <a:graphicData uri="http://schemas.openxmlformats.org/drawingml/2006/table">
            <a:tbl>
              <a:tblPr/>
              <a:tblGrid>
                <a:gridCol w="1403280"/>
                <a:gridCol w="2017800"/>
                <a:gridCol w="1141200"/>
                <a:gridCol w="1228680"/>
                <a:gridCol w="1494000"/>
                <a:gridCol w="140184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KN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W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Y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easiest way to think of a colon is to think of it at an arrow or point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tells the reader to look ahead to find out more information about something just read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B—the clause before the colon must be an independent claus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dditional information following a colon may be a list, a quotation (if you do not use “says,” “explains,” or other introductory word), an explanation, et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ch is correct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hike we brought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nacks we brought for the hike were very healthy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ore examples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ric watched the gymnast on the bars: “Your technique is good, but you need more practice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day, we will discuss a well-known and interesting text: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hef concluded her speech with one important thought: she said that fresh ingredients are the bes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ragment is a group of words that does not express a complete though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dentify the fragments in the following passag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tally bored with the movie. Shannon left her seat to get popcorn. She returned a few minutes later and found Andrew sleeping in his seat. Apparently was also bored. She nudged him and he awoke with a star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MORE 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eaving early in the morning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bouquet of freshly cut flow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ill arrive between one and two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anting to write you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eing my friend at the concert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the train is not lat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Because the rain has stopped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hangs on the wall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wimming, skiing, or boating on the lak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jar on top of the fridg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run-on sentence is two or more complete sentences that are not properly joined or separated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arryl sat bolt upright chills of fear ran through his bod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grandmother love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read it years ag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other type of run-on is a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COMMA SPLIC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hich is a run-on made up of two independent clauses with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 comma between them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imals were not hungry, they had already eat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typical sonnet has fourteen lines, ten syllables make up each li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re are five ways to fix a run-on. The first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END MARK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 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?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, 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.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second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COMMAS AND CONJUNCTION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and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or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third way is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USING A SEMICOLON TO CONNECT TWO CLOSELY RELATED IDEAS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 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,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Homonyms cont.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heir house is over ther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dog, it’s moving its food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It’s its (possessive) bon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friend, who’s a teacher too, whose name is Amy, lives in Texa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ourth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FORMING A SIMPLE SENTENCE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819520"/>
          <a:ext cx="7772400" cy="3865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is the coach of our golf team, she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the coach of our golf team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often runs with us, her assistant also runs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nd her assistant often run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inal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REWRITE TO FORM COMPLEX SENTENCE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,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 Huy helped wash the car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rallel construction is when you express ideas that go together in a similar way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imilar form allows the reader a way to recognize the likeness in what is being expres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FORM itself reinforces the similarity of idea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amiliar example of parallel construction is the Beatitud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poor in spirit: for theirs is the kingdom of heav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y who mourn: for they shall be comfort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meek: for they shall inherit the earth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2286000"/>
          <a:ext cx="8153280" cy="40863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was taught by the textbook method; now it is taught by the laboratory metho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 was taught by the textbook method, while now the laboratory method is employe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2286000"/>
          <a:ext cx="8152920" cy="3840120"/>
        </p:xfrm>
        <a:graphic>
          <a:graphicData uri="http://schemas.openxmlformats.org/drawingml/2006/table">
            <a:tbl>
              <a:tblPr/>
              <a:tblGrid>
                <a:gridCol w="407628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Spanish and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the Spanish and the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2286000"/>
          <a:ext cx="8153280" cy="3840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with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2286000"/>
          <a:ext cx="8153280" cy="43862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ceremony was both long and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was both a long ceremony and very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for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must either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ither you must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BE SURE OF YOURSELF!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 not use phrases that bring into question whether you know what you are talking about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pparent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se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yb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sum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erhap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And please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n’t use the following words when you are writing formally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3048120"/>
          <a:ext cx="7467480" cy="2560680"/>
        </p:xfrm>
        <a:graphic>
          <a:graphicData uri="http://schemas.openxmlformats.org/drawingml/2006/table">
            <a:tbl>
              <a:tblPr/>
              <a:tblGrid>
                <a:gridCol w="1828800"/>
                <a:gridCol w="3149640"/>
                <a:gridCol w="2489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ET/G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(is said/thought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t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i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RE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U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 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LIKE (unless you’re comparin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ny other obvious slang wo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han (comparing) vs. Then (tim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older THAN my broth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shorter THAN most of the kids in clas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ent to the store, THEN I went hom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nt to eat dinner THEN do my work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YI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uld of, should of, would of, and must of (and any phrases remotely close to these) are not actually used…EVER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rrect way to say these is c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sh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and must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And last but not least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eorgia"/>
              </a:rPr>
              <a:t>STAY IN THE STORY</a:t>
            </a:r>
            <a:endParaRPr b="0" lang="en-US" sz="9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Don’t write about what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c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sh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or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w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 if the author/poet/character did something differently. Your job is to analyze what you read and its significance, NOT create a choose your own adventure book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OURCE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PRENTICE HALL GRAMMAR &amp; COMPOSITION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Upper Saddle River: Prentice Hall, 1987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nk Jr., William, and E. B. White.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e Elements of Styl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3rd ed. New York: Macmillan Co., INC, 1979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parents’ divorce AFFECTED me negative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alter’s choices AFFECT everyone in the fami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/One EFFECT of not doing your homework is your grade will go dow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many negative EFFECTS of doing drug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ACCEPTED my apolog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ope the school ACCEPTS 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ate all eggs EXCEPT hard boil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ove all my students EXCEPT that one boy from my first year of teach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Good vs. Well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(adjective) is not to be confused with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ell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adverb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good job well do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is a goo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write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did you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test? I did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are you feeling?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ave you had a good day? Pretty goo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ENS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write about literature, you write in PRESENT TENSE; this makes your essay seem more in the moment than as if you were telling a story,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Catherin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not a very kind woman; sh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ake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dvantage of others to make herself happy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24:53Z</dcterms:created>
  <dc:creator>lfstates</dc:creator>
  <dc:description/>
  <dc:language>en-US</dc:language>
  <cp:lastModifiedBy>lfstates</cp:lastModifiedBy>
  <dcterms:modified xsi:type="dcterms:W3CDTF">2010-02-09T17:11:18Z</dcterms:modified>
  <cp:revision>43</cp:revision>
  <dc:subject/>
  <dc:title>Slide 1</dc:title>
</cp:coreProperties>
</file>