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3835-8341-4156-B584-40BCC41A6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E012-ED3F-4B7F-B0E4-5AB6EF2F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6FA3-57F2-4CA8-9878-4BF254F38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EBB8-2834-44AD-A7ED-B77EE5BD1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32BB-A045-4C20-AAD8-F3DAD37C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994F-6A2A-4E16-9B24-7D66DF0A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0D12-27EB-462B-93C6-08D99CB3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50CE-9E95-4E7E-B451-90065991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321B-FD4F-490F-A9CC-A01CB93F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9D34-8BBB-419F-888A-78051D6D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88DA-2DA9-4AA8-A842-1BB8A51E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3D5D-DE80-4628-B2D8-70A5A78D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DF1F-97D0-40D0-8756-B88FB71483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99"/>
                </a:solidFill>
                <a:latin typeface="Garamond"/>
              </a:rPr>
              <a:t>GRAMMAR</a:t>
            </a:r>
            <a:endParaRPr b="0" lang="en-US" sz="96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TENSE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dditionally, you MUST NOT switch back and forth between tenses in your writing in this class, to do so makes the reader question your control over your writing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Contractions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n formal writing, you should avoid contraction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23880" y="2743200"/>
          <a:ext cx="6096240" cy="3708360"/>
        </p:xfrm>
        <a:graphic>
          <a:graphicData uri="http://schemas.openxmlformats.org/drawingml/2006/table">
            <a:tbl>
              <a:tblPr/>
              <a:tblGrid>
                <a:gridCol w="2133720"/>
                <a:gridCol w="2209680"/>
                <a:gridCol w="1752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Contra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Form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can’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beco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cann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won’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beco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will n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shouldn’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beco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should n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they’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beco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they 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don’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beco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do n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isn’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beco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is n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aren’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beco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are n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it’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beco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it 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</a:tr>
              <a:tr h="3715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Etc., etc., ad infinitu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ITS vs. IT’S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nce you should not be using contractions, this should not be an issue, but if it is, ITS is a possessive pronoun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at means you use ITS when you are saying a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thing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owns something e.g.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 live in a duplex. Unfortunately </a:t>
            </a:r>
            <a:r>
              <a:rPr b="1" lang="en-US" sz="3200" spc="-1" strike="noStrike">
                <a:solidFill>
                  <a:srgbClr val="ffff99"/>
                </a:solidFill>
                <a:latin typeface="Georgia"/>
              </a:rPr>
              <a:t>its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roof is about to fall in.”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THAT vs. WHO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en you are describing a PERSON, and are adding more information, please use 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WHO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nstead of that: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Julius Caesar, </a:t>
            </a:r>
            <a:r>
              <a:rPr b="1" lang="en-US" sz="3200" spc="-1" strike="noStrike">
                <a:solidFill>
                  <a:srgbClr val="ffff99"/>
                </a:solidFill>
                <a:latin typeface="Georgia"/>
              </a:rPr>
              <a:t>who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is killed by his friends and colleagues, exhibits tyrannical behavior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SUBJECT/VERB AGREEMENT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The subject (what is “doing” the verb) and the verb have to agree, or go together. 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E.g. I eat cake (SVO)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Subjects (always try to put these BEFORE the verb) include the following: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62120" y="3657600"/>
          <a:ext cx="7315200" cy="2949480"/>
        </p:xfrm>
        <a:graphic>
          <a:graphicData uri="http://schemas.openxmlformats.org/drawingml/2006/table">
            <a:tbl>
              <a:tblPr/>
              <a:tblGrid>
                <a:gridCol w="2889000"/>
                <a:gridCol w="2324160"/>
                <a:gridCol w="2102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</a:tr>
              <a:tr h="94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1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Georgia"/>
                        </a:rPr>
                        <a:t>st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Pers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W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2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Georgia"/>
                        </a:rPr>
                        <a:t>nd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 Pers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YO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You al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3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Georgia"/>
                        </a:rPr>
                        <a:t>rd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 Pers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He/She/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he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SUBJECT/VERB AGREEMENT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 verbs have to change to match up with the subjects, for example for the verb “walk:”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 WALK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You WALK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He/She/It WALK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WALK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You (all) WALK 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y WALK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Notice how the verb “walk” changes for He/She/It (or in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eorgia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person singular)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PASSIVE vs. ACTIVE VOICE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ake sure that when you are writing, your subject is directly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DOING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verb rather than being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DONE BY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verb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PASSIVE: The website is updated by me.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CTIVE: I update  the website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PASSIVE: Caesar was killed by Brutus.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CTIVE: Brutus killed Caesar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I vs. Me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” is the subject, it is always “doing” the verb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e” is the object, it is always “being done” by the verb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 am going to the stor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he is going with me to the stor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my and I are going to the stor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at present is for Andrew and m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I vs. Me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Break them down to check when you have TWO people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my and I are going to the store…Amy is going to the store…I am going to the store, therefore: Amy and </a:t>
            </a:r>
            <a:r>
              <a:rPr b="0" lang="en-US" sz="3200" spc="-1" strike="noStrike">
                <a:solidFill>
                  <a:srgbClr val="fc2e0c"/>
                </a:solidFill>
                <a:latin typeface="Georgia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at present is for Andrew…That present is for me, therefore, that present is for Andrew and </a:t>
            </a:r>
            <a:r>
              <a:rPr b="0" lang="en-US" sz="3200" spc="-1" strike="noStrike">
                <a:solidFill>
                  <a:srgbClr val="fc2e0c"/>
                </a:solidFill>
                <a:latin typeface="Georgia"/>
              </a:rPr>
              <a:t>me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I vs. Me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Examples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party is for Benson and I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James and me are going to school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Jeffrey and me are friend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e was speaking to Jason and I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tephen and me are weird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at idea is perfect for Alex and I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Titles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Underline or Italicize titles of novels or plays: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eorgia"/>
              </a:rPr>
              <a:t>Wuthering Heights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or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Wuthering Heights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(obviously, if you are writing, you cannot italicize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itles of poems, short stories or articles should be in quotation marks: “Sonnet 138” or “The Love Song of J. Alfred Prufrock”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WHO vs. WHOM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O is a subject, meaning it is always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DOING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verb e.g.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o is there?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y friend, who is older than me, is weird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eathcliff, who is in love with Catherine, is a wretched man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WHO vs. WHOM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OM is an object, meaning it is always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BEING DONE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by the verb. Usually you know you need to use whom when you see a preposition e.g.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10320" indent="-31032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o Whom It May Concern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10320" indent="-31032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r whom did you buy that cake?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10320" indent="-31032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ith whom did you go to the stor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10320" indent="-310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No one actually talks like this (except me sometimes); this is for formal writing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10320" indent="-310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" name="5-Point Star 3"/>
          <p:cNvSpPr/>
          <p:nvPr/>
        </p:nvSpPr>
        <p:spPr>
          <a:xfrm>
            <a:off x="228600" y="5562720"/>
            <a:ext cx="304920" cy="228600"/>
          </a:xfrm>
          <a:prstGeom prst="pie">
            <a:avLst/>
          </a:prstGeom>
          <a:solidFill>
            <a:srgbClr val="006462"/>
          </a:solidFill>
          <a:ln w="25560">
            <a:solidFill>
              <a:srgbClr val="0047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5-Point Star 4"/>
          <p:cNvSpPr/>
          <p:nvPr/>
        </p:nvSpPr>
        <p:spPr>
          <a:xfrm>
            <a:off x="7696080" y="6095880"/>
            <a:ext cx="304920" cy="228600"/>
          </a:xfrm>
          <a:prstGeom prst="pie">
            <a:avLst/>
          </a:prstGeom>
          <a:solidFill>
            <a:srgbClr val="006462"/>
          </a:solidFill>
          <a:ln w="25560">
            <a:solidFill>
              <a:srgbClr val="0047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PERSON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n formal writing, you should avoid writing in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eorgia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person (I/WE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n formal writing, you should also avoid writing in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eorgia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person (You, You all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refore, you should write in…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99"/>
                </a:solidFill>
                <a:latin typeface="Georgia"/>
              </a:rPr>
              <a:t>THIRD PERSON!!!!!!!!!!</a:t>
            </a:r>
            <a:endParaRPr b="0" lang="en-US" sz="5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PRONOUNS INCLUDE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UBJECT: He/She/It/They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OBJECT: Him/Her/It/Them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POSSESSIVE SUBJECT: His/Her/Its/Their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POSSESSIVE OBJECT His/Hers/Its/Theirs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REFLEXIVE: Himself/Herself/Itself/Themselves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PRONOUN/ANTECEDENT AGREEMENT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 pronoun must 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AGREE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with its antecedent (the word or phrase it replaced)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Just like with Subject/Verb Agreement, if you do not match up your pronouns and antecedents, your writing becomes very confused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PRONOUN/ANTECEDENT AGREEMENT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ry and figure out what is wrong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ary is studying biology, a course you need in order to prepare for medical school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Each nation has their own culture and our nation has their own culture too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shley and Leia cannot find her glove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Uncle Arthur sent us a package, but we never arrived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PRONOUN/ANTECEDENT AGREEMENT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nd some more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ew in the class gave its approval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Our friends gave Joe and myself a party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story was exciting, but they did not explain what happened at the end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en Caesar entered the Senate, Brutus and the other conspirators began to crowd around. Even so, he did not sense any danger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SEMI-COLON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semi-colon is less final than a period, but calls for more of a pause than a comma.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semi-colon separates two clauses, but allows you to show that there is a connection between these two clause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semi-colon is a good way of combining ideas and avoiding choppiness of many short sentence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SEMI-COLON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Use a semi-colon to join independent clauses that are not already joined by a conjunction (and, but, for, nor, or, so, yet); for sentences using conjunctions, use a comma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James celebrated his birthday with  a cake, </a:t>
            </a:r>
            <a:r>
              <a:rPr b="1" lang="en-US" sz="3200" spc="-1" strike="noStrike">
                <a:solidFill>
                  <a:srgbClr val="ffff99"/>
                </a:solidFill>
                <a:latin typeface="Georgia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everyone ate several pieces of it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James celebrated his birthday with a cake; everyone ate several pieces of it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SEMI-COLON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 semi-colon should not be used between unrelated sentences. The two clauses should be related in meaning and structure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y favorite dinner begins with a steaming bowl of soup; I wonder why mother is not home yet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e ate until we could not eat another bite; we were all hungry after our hike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Mixing Homonyms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ry not to confuse the following words: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04920" y="2971800"/>
          <a:ext cx="8686800" cy="3556080"/>
        </p:xfrm>
        <a:graphic>
          <a:graphicData uri="http://schemas.openxmlformats.org/drawingml/2006/table">
            <a:tbl>
              <a:tblPr/>
              <a:tblGrid>
                <a:gridCol w="1403280"/>
                <a:gridCol w="2017800"/>
                <a:gridCol w="1141200"/>
                <a:gridCol w="1228680"/>
                <a:gridCol w="1494000"/>
                <a:gridCol w="1401840"/>
              </a:tblGrid>
              <a:tr h="62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THEI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I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KNO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WHO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YOU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TO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THE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IT’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WHO’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YOU’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TW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THEY’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Wa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We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Whe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Whe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Weath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He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He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Be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Ba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Be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B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R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Rea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D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Du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Hou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Ou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A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Rea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Re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Rei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COLON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easiest way to think of a colon is to think of it at an arrow or pointer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t tells the reader to look ahead to find out more information about something just read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NB—the clause before the colon must be an independent claus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COLON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additional information following a colon may be a list, a quotation (if you do not use “says,” “explains,” or other introductory word), an explanation, etc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ich is correct?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On the hike we brought: apples, nuts, and raisin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snacks we brought for the hike were very healthy: apples, nuts, and raisin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COLON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ore examples…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Eric watched the gymnast on the bars: “Your technique is good, but you need more practice.”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oday, we will discuss a well-known and interesting text: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Hamlet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chef concluded her speech with one important thought: she said that fresh ingredients are the best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FRAGMENTS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 fragment is a group of words that does not express a complete though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dentify the fragments in the following passage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otally bored with the movie. Shannon left her seat to get popcorn. She returned a few minutes later and found Andrew sleeping in his seat. Apparently was also bored. She nudged him and he awoke with a start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MORE FRAGMENTS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Leaving early in the morning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A bouquet of freshly cut flowers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ill arrive between one and two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anting to write you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eing my friend at the concert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f the train is not late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Because the rain has stopped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hich hangs on the wall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wimming, skiing, or boating on the lake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n the jar on top of the fridge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RUN-ONS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 run-on sentence is two or more complete sentences that are not properly joined or separated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Darryl sat bolt upright chills of fear ran through his body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y grandmother loved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Wuthering Heights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he read it years ago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RUN-ONS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nother type of run-on is a 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COMMA SPLICE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, which is a run-on made up of two independent clauses with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only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a comma between them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animals were not hungry, they had already eaten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typical sonnet has fourteen lines, ten syllables make up each line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RUN-ONS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re are five ways to fix a run-on. The first way is 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USING END MARKS: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85800" y="2895480"/>
          <a:ext cx="7772400" cy="38656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RUN-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CORRE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Do most people like criticism I don’t think so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Do most people like criticism</a:t>
                      </a:r>
                      <a:r>
                        <a:rPr b="1" lang="en-US" sz="2200" spc="-1" strike="noStrike">
                          <a:solidFill>
                            <a:srgbClr val="fc2e0c"/>
                          </a:solidFill>
                          <a:latin typeface="Georgia"/>
                        </a:rPr>
                        <a:t>?</a:t>
                      </a: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Georgia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I don’t think so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  <a:tr h="17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In 79 A.D. Mount Vesuvius erupted, Pompeii was destroyed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In 79 A.D. Mount Vesuvius erupted</a:t>
                      </a:r>
                      <a:r>
                        <a:rPr b="1" lang="en-US" sz="2200" spc="-1" strike="noStrike">
                          <a:solidFill>
                            <a:srgbClr val="fc2e0c"/>
                          </a:solidFill>
                          <a:latin typeface="Georgia"/>
                        </a:rPr>
                        <a:t>.</a:t>
                      </a: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Georgia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Pompeii was destroyed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RUN-ONS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 second way to correct a run-on is 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USING COMMAS AND CONJUNCTIONS: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85800" y="2895480"/>
          <a:ext cx="7772400" cy="38656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RUN-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CORRE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The sky became dark it began to rain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The sky became dark</a:t>
                      </a:r>
                      <a:r>
                        <a:rPr b="1" lang="en-US" sz="2200" spc="-1" strike="noStrike">
                          <a:solidFill>
                            <a:srgbClr val="fc2e0c"/>
                          </a:solidFill>
                          <a:latin typeface="Georgia"/>
                        </a:rPr>
                        <a:t>, and</a:t>
                      </a: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 it began to rain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  <a:tr h="17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You may visit the White House, you can tour the museum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You may visit the White House, </a:t>
                      </a:r>
                      <a:r>
                        <a:rPr b="1" lang="en-US" sz="2200" spc="-1" strike="noStrike">
                          <a:solidFill>
                            <a:srgbClr val="fc2e0c"/>
                          </a:solidFill>
                          <a:latin typeface="Georgia"/>
                        </a:rPr>
                        <a:t>or</a:t>
                      </a: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 you can tour the museum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RUN-ONS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The third way is 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USING A SEMICOLON TO CONNECT TWO CLOSELY RELATED IDEAS: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85800" y="2895480"/>
          <a:ext cx="7772400" cy="35308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RUN-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CORRE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The camper wasn’t frightened by the bear he was terrified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The camper wasn’t frightened by the bear</a:t>
                      </a:r>
                      <a:r>
                        <a:rPr b="1" lang="en-US" sz="2200" spc="-1" strike="noStrike">
                          <a:solidFill>
                            <a:srgbClr val="fc2e0c"/>
                          </a:solidFill>
                          <a:latin typeface="Georgia"/>
                        </a:rPr>
                        <a:t>; </a:t>
                      </a: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he was terrified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Stephanie swims often, water relaxes her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Stephanie swims often</a:t>
                      </a:r>
                      <a:r>
                        <a:rPr b="1" lang="en-US" sz="2200" spc="-1" strike="noStrike">
                          <a:solidFill>
                            <a:srgbClr val="fc2e0c"/>
                          </a:solidFill>
                          <a:latin typeface="Georgia"/>
                        </a:rPr>
                        <a:t>;</a:t>
                      </a: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 water relaxes her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Homonyms cont.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Their house is over there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My dog, it’s moving its food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It’s its (possessive) bone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My friend, who’s a teacher too, whose name is Amy, lives in Texas.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RUN-ONS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 fourth way is 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FORMING A SIMPLE SENTENCE: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85800" y="2819520"/>
          <a:ext cx="7772400" cy="38653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RUN-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CORRE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Ms. McEvoy is the coach of our golf team, she has placed us on a rigorous training program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Ms. McEvoy</a:t>
                      </a:r>
                      <a:r>
                        <a:rPr b="1" lang="en-US" sz="2200" spc="-1" strike="noStrike">
                          <a:solidFill>
                            <a:srgbClr val="fc2e0c"/>
                          </a:solidFill>
                          <a:latin typeface="Georgia"/>
                        </a:rPr>
                        <a:t>, the coach of our golf team,</a:t>
                      </a: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 has placed us on a rigorous training program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Ms. McEvoy often runs with us, her assistant also runs with u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Ms. McEvoy </a:t>
                      </a:r>
                      <a:r>
                        <a:rPr b="1" lang="en-US" sz="2200" spc="-1" strike="noStrike">
                          <a:solidFill>
                            <a:srgbClr val="fc2e0c"/>
                          </a:solidFill>
                          <a:latin typeface="Georgia"/>
                        </a:rPr>
                        <a:t>and her assistant often run</a:t>
                      </a: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 with us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RUN-ONS continued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 final way to correct a run-on is 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REWRITE TO FORM COMPLEX SENTENCES: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85800" y="2895480"/>
          <a:ext cx="7772400" cy="35308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RUN-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CORRE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Huy helped wash the car, his Dad did most of the work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Huy helped wash the car </a:t>
                      </a:r>
                      <a:r>
                        <a:rPr b="1" lang="en-US" sz="2200" spc="-1" strike="noStrike">
                          <a:solidFill>
                            <a:srgbClr val="fc2e0c"/>
                          </a:solidFill>
                          <a:latin typeface="Georgia"/>
                        </a:rPr>
                        <a:t>although</a:t>
                      </a: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 his Dad did most of the work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c2e0c"/>
                          </a:solidFill>
                          <a:latin typeface="Georgia"/>
                        </a:rPr>
                        <a:t>Although Huy helped wash the car,</a:t>
                      </a:r>
                      <a:r>
                        <a:rPr b="1" lang="en-US" sz="22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 his Dad did most of the work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PARALLEL CONSTRUCTION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Parallel construction is when you express ideas that go together in a similar way.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similar form allows the reader a way to recognize the likeness in what is being expressed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FORM itself reinforces the similarity of idea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PARALLEL CONSTRUCTION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 familiar example of parallel construction is the Beatitudes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Blessed are the poor in spirit: for theirs is the kingdom of heaven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Blessed are they who mourn: for they shall be comforted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Blessed are the meek: for they shall inherit the earth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PARALLEL CONSTRUCTION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hich is the example of parallel construction?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33520" y="2286000"/>
          <a:ext cx="8153280" cy="408636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40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Formerly, science was taught by the textbook method; now it is taught by the laboratory method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Formerly, science  was taught by the textbook method, while now the laboratory method is employed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PARALLEL CONSTRUCTION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hich is the example of parallel construction?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33520" y="2286000"/>
          <a:ext cx="8152920" cy="3840120"/>
        </p:xfrm>
        <a:graphic>
          <a:graphicData uri="http://schemas.openxmlformats.org/drawingml/2006/table">
            <a:tbl>
              <a:tblPr/>
              <a:tblGrid>
                <a:gridCol w="4076280"/>
                <a:gridCol w="4076640"/>
              </a:tblGrid>
              <a:tr h="384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…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he French, the Italians, Spanish and Portuguese…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…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he French, the Italians, the Spanish and the Portuguese…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PARALLEL CONSTRUCTION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hich is the example of parallel construction?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33520" y="2286000"/>
          <a:ext cx="8153280" cy="384012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384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His speech was marked by disagreement with and scorn for his opponent’s position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His speech was marked by disagreement and scorn for his opponent’s position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PARALLEL CONSTRUCTION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hich is the example of parallel construction?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33520" y="2286000"/>
          <a:ext cx="8153280" cy="438624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14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he ceremony was both long and tedious.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It was both a long ceremony and very tedious.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A time not for words but action.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A time not for words but for action.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You must either grant his request or incur his ill will.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Either you must grant his request or incur his ill will.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BE SURE OF YOURSELF!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Do not use phrases that bring into question whether you know what you are talking about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pparently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t seem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ayb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ssuming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Perhap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And please…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Don’t use the following words when you are writing formally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914400" y="3048120"/>
          <a:ext cx="7467480" cy="2560680"/>
        </p:xfrm>
        <a:graphic>
          <a:graphicData uri="http://schemas.openxmlformats.org/drawingml/2006/table">
            <a:tbl>
              <a:tblPr/>
              <a:tblGrid>
                <a:gridCol w="1828800"/>
                <a:gridCol w="3149640"/>
                <a:gridCol w="2489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GET/G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It (is said/thought, etc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THING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46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Someth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Some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Ain’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REAL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STUF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A L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aea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LIKE (unless you’re comparing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5a58"/>
                          </a:solidFill>
                          <a:latin typeface="Georgia"/>
                        </a:rPr>
                        <a:t>Any other obvious slang wor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3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Seeming Homonyms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Than (comparing) vs. Then (time)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 am older THAN my brothers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 am shorter THAN most of the kids in class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 went to the store, THEN I went home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 want to eat dinner THEN do my work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Affect (verb) vs. Effect (noun)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Accept (verb) vs. Except (adjective)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FYI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ould of, should of, would of, and must of (and any phrases remotely close to these) are not actually used…EVER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correct way to say these is could </a:t>
            </a:r>
            <a:r>
              <a:rPr b="1" lang="en-US" sz="3200" spc="-1" strike="noStrike">
                <a:solidFill>
                  <a:srgbClr val="ffff99"/>
                </a:solidFill>
                <a:latin typeface="Georgia"/>
              </a:rPr>
              <a:t>have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, should </a:t>
            </a:r>
            <a:r>
              <a:rPr b="1" lang="en-US" sz="3200" spc="-1" strike="noStrike">
                <a:solidFill>
                  <a:srgbClr val="ffff99"/>
                </a:solidFill>
                <a:latin typeface="Georgia"/>
              </a:rPr>
              <a:t>have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, would </a:t>
            </a:r>
            <a:r>
              <a:rPr b="1" lang="en-US" sz="3200" spc="-1" strike="noStrike">
                <a:solidFill>
                  <a:srgbClr val="ffff99"/>
                </a:solidFill>
                <a:latin typeface="Georgia"/>
              </a:rPr>
              <a:t>have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, and must </a:t>
            </a:r>
            <a:r>
              <a:rPr b="1" lang="en-US" sz="3200" spc="-1" strike="noStrike">
                <a:solidFill>
                  <a:srgbClr val="ffff99"/>
                </a:solidFill>
                <a:latin typeface="Georgia"/>
              </a:rPr>
              <a:t>hav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Georgia"/>
              </a:rPr>
              <a:t>And last but not least…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Georgia"/>
              </a:rPr>
              <a:t>STAY IN THE STORY</a:t>
            </a:r>
            <a:endParaRPr b="0" lang="en-US" sz="9600" spc="-1" strike="noStrike">
              <a:solidFill>
                <a:srgbClr val="ffffff"/>
              </a:solidFill>
              <a:latin typeface="Georgi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Don’t write about what </a:t>
            </a:r>
            <a:r>
              <a:rPr b="1" i="1" lang="en-US" sz="2000" spc="-1" strike="noStrike">
                <a:solidFill>
                  <a:srgbClr val="ffffff"/>
                </a:solidFill>
                <a:latin typeface="Georgia"/>
              </a:rPr>
              <a:t>could have</a:t>
            </a: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 happened, </a:t>
            </a:r>
            <a:r>
              <a:rPr b="1" i="1" lang="en-US" sz="2000" spc="-1" strike="noStrike">
                <a:solidFill>
                  <a:srgbClr val="ffffff"/>
                </a:solidFill>
                <a:latin typeface="Georgia"/>
              </a:rPr>
              <a:t>should have</a:t>
            </a: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 happened, or </a:t>
            </a:r>
            <a:r>
              <a:rPr b="1" i="1" lang="en-US" sz="2000" spc="-1" strike="noStrike">
                <a:solidFill>
                  <a:srgbClr val="ffffff"/>
                </a:solidFill>
                <a:latin typeface="Georgia"/>
              </a:rPr>
              <a:t>would have</a:t>
            </a:r>
            <a:r>
              <a:rPr b="1" lang="en-US" sz="2000" spc="-1" strike="noStrike">
                <a:solidFill>
                  <a:srgbClr val="ffffff"/>
                </a:solidFill>
                <a:latin typeface="Georgia"/>
              </a:rPr>
              <a:t> happened if the author/poet/character did something differently. Your job is to analyze what you read and its significance, NOT create a choose your own adventure book.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SOURCES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PRENTICE HALL GRAMMAR &amp; COMPOSITION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. Upper Saddle River: Prentice Hall, 1987.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trunk Jr., William, and E. B. White.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The Elements of Style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. 3rd ed. New York: Macmillan Co., INC, 1979.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Seeming Homonyms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Affect (verb) vs. Effect (noun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y parents’ divorce AFFECTED me negatively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alter’s choices AFFECT everyone in the family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/One EFFECT of not doing your homework is your grade will go down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re are many negative EFFECTS of doing drug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Georgia"/>
              </a:rPr>
              <a:t>Seeming Homonyms CONTINUED</a:t>
            </a:r>
            <a:endParaRPr b="0" lang="en-US" sz="40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Accept (verb) vs. Except (adjective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e ACCEPTED my apology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 hope the school ACCEPTS me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 hate all eggs EXCEPT hard boiled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 love all my students EXCEPT that one boy from my first year of teaching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Good vs. Well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Good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(adjective) is not to be confused with 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Well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(adverb)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 good job well done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e is a good man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 write pretty well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ow did you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do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on the test? I did well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ow are you feeling? Pretty well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ave you had a good day? Pretty good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Georgia"/>
              </a:rPr>
              <a:t>TENSE</a:t>
            </a:r>
            <a:endParaRPr b="0" lang="en-US" sz="4400" spc="-1" strike="noStrike">
              <a:solidFill>
                <a:srgbClr val="ffff99"/>
              </a:solidFill>
              <a:latin typeface="Georg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en you write about literature, you write in PRESENT TENSE; this makes your essay seem more in the moment than as if you were telling a story, e.g.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n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Wuthering Heights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Catherine </a:t>
            </a:r>
            <a:r>
              <a:rPr b="1" lang="en-US" sz="3200" spc="-1" strike="noStrike">
                <a:solidFill>
                  <a:srgbClr val="ffff00"/>
                </a:solidFill>
                <a:latin typeface="Georgia"/>
              </a:rPr>
              <a:t>is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not a very kind woman; she </a:t>
            </a:r>
            <a:r>
              <a:rPr b="1" lang="en-US" sz="3200" spc="-1" strike="noStrike">
                <a:solidFill>
                  <a:srgbClr val="ffff00"/>
                </a:solidFill>
                <a:latin typeface="Georgia"/>
              </a:rPr>
              <a:t>takes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advantage of others to make herself happy.”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9:24:53Z</dcterms:created>
  <dc:creator>lfstates</dc:creator>
  <dc:description/>
  <dc:language>en-US</dc:language>
  <cp:lastModifiedBy>lfstates</cp:lastModifiedBy>
  <dcterms:modified xsi:type="dcterms:W3CDTF">2010-02-09T17:11:18Z</dcterms:modified>
  <cp:revision>43</cp:revision>
  <dc:subject/>
  <dc:title>Slide 1</dc:title>
</cp:coreProperties>
</file>